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0702-91AE-4839-A569-6F14E0E8C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 am a teacher so I have a teachers perspective. My first reaction was “no, no, no that is not right, I am a teacher in the classroom with my students have the most influence”. I do not have the perspective or understanding of the whole picture that you have as school leaders can you please explain to me how this can be true? Can you sum it up in a couple of sentences for me why this is true? I will give you 1 mins.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to their explanation. I went on to read for myself that </a:t>
            </a:r>
            <a:r>
              <a:rPr b="1" lang="en-US" sz="1200" spc="-1" strike="noStrike">
                <a:solidFill>
                  <a:srgbClr val="000000"/>
                </a:solidFill>
                <a:latin typeface="Arial"/>
              </a:rPr>
              <a:t>School leaders understand all the factors that lead to and support successful studen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quote is actually: “Effective school leadership is the single most important influence on student learning. This does not mean school leaders act alone. It means that school leaders collaborate with teachers, parents, and support staff to develop the school culture, resources, and focus that support student lear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CB050-53F7-40D1-AEBF-B195F87FB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4811A-A49D-4B04-B977-71957E9DE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A0FF0-C625-4858-BC2B-DB00BBF3A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6180F-1EFB-469F-B360-E4BD13069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157D7-59A3-4CD1-A295-022BDB9A8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3C6AD-8016-45F5-9C18-36AF89891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23A3A-D01F-4CEC-BD9D-E085A31FF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0A394-26D7-4CAC-8DCE-148354D27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DA196-9A34-4FFB-B871-7AB939066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2CD3E-677E-4DDC-8179-254BDCB29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B186-838F-4848-8347-F58D6FED8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9F510-7725-4507-8BC2-73A2C1796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3C1A-D02D-45AE-AF79-75F9305D7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lickr.com/photos/ebolasmallpox/1066368855/"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54000"/>
            <a:ext cx="10515600" cy="7013520"/>
          </a:xfrm>
          <a:prstGeom prst="rect">
            <a:avLst/>
          </a:prstGeom>
          <a:ln w="0">
            <a:noFill/>
          </a:ln>
        </p:spPr>
      </p:pic>
      <p:sp>
        <p:nvSpPr>
          <p:cNvPr id="49" name=""/>
          <p:cNvSpPr/>
          <p:nvPr/>
        </p:nvSpPr>
        <p:spPr>
          <a:xfrm>
            <a:off x="136440" y="64620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76320" y="304920"/>
            <a:ext cx="3809880" cy="2226960"/>
          </a:xfrm>
          <a:prstGeom prst="rect">
            <a:avLst/>
          </a:prstGeom>
          <a:solidFill>
            <a:srgbClr val="ffcc99">
              <a:alpha val="78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 school leadership is the single most important influence on student learning.</a:t>
            </a:r>
            <a:endParaRPr b="0" lang="en-US" sz="2800" spc="-1" strike="noStrike">
              <a:solidFill>
                <a:srgbClr val="000000"/>
              </a:solidFill>
              <a:latin typeface="Arial"/>
            </a:endParaRPr>
          </a:p>
        </p:txBody>
      </p:sp>
      <p:sp>
        <p:nvSpPr>
          <p:cNvPr id="51" name=""/>
          <p:cNvSpPr/>
          <p:nvPr/>
        </p:nvSpPr>
        <p:spPr>
          <a:xfrm>
            <a:off x="76320" y="6083280"/>
            <a:ext cx="44956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2b2b2"/>
                </a:solidFill>
                <a:latin typeface="Arial"/>
              </a:rPr>
              <a:t>So happ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http://www.flickr.com/photos/ebolasmallpox/106636885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Uploaded to Flickr by horizontal. integr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Downloaded on August 4, 201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Creative Commons License: Attribution-NonCommercial-ShareAlike 2.0 Generic</a:t>
            </a:r>
            <a:r>
              <a:rPr b="1" lang="en-US" sz="900" spc="-1" strike="noStrike">
                <a:solidFill>
                  <a:srgbClr val="b2b2b2"/>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15:04:06Z</dcterms:created>
  <dc:creator>rrobb</dc:creator>
  <dc:description/>
  <dc:language>en-US</dc:language>
  <cp:lastModifiedBy>rrobb</cp:lastModifiedBy>
  <dcterms:modified xsi:type="dcterms:W3CDTF">2010-08-04T15:58:35Z</dcterms:modified>
  <cp:revision>5</cp:revision>
  <dc:subject/>
  <dc:title>Slide 1</dc:title>
</cp:coreProperties>
</file>